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40C-813D-49CC-B414-647820DB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670-180A-4309-BB56-A318333E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C54-FF8D-4EBD-AAC6-C38EC03F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5CD-6580-4985-BE9E-337BA73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D96B-EE89-4A08-9399-CBF8955A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753-4BE4-4415-BDF8-5BFB85D6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0721-6CDC-41F6-8FBD-065AD264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3AD1-72B9-45C5-97FB-6B3E664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8CD-A212-464C-9C92-4C8F7D8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169C-5BAA-42EC-911E-1B5B60EF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79DA-2F07-4713-A1B3-4205DC3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046-3E38-489A-9BA5-C1B9FA0C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12B-CA78-426E-8A5D-05BF7845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B34-8129-44AE-A659-F6EA221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564B-1FCF-4B39-BE7E-7E96CB02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141A-F8BD-48AE-BBCF-FD691635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BBCA-BC2E-4188-8FFA-AA2039A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3DE-5A8F-43DB-8686-3F366EC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6D0-DF49-489D-8B84-940562C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F76-0EB7-4130-8B83-1B456B5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A60-5D61-44B7-8FE2-A0DC1818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E50-1CF6-4F36-BF34-D6995B4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B7F-03FD-49A4-9698-1E571E19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B54-6938-4C26-8685-463DCFD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7AFF-C366-404E-BC47-2C18F534B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31B-9DBF-4945-A80E-1AEE7AFA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Comic Sans MS"/>
              </a:rPr>
              <a:t>EL SALARIO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COMPLEMENTOS SALARIALES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S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Antigü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io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ít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ST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óxicos, penosos o peligro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ctu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O CALIDAD EN E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as e Incen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uses de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uses de Asis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ras Extraordin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CIMIENTOS PERIODICOS SUPERIOR A UN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s Ext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icipación en 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I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ncias Insulares, Ceuta o Meli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BASES DE COTIZACION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980640"/>
            <a:ext cx="76201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TINGENCIA COMU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CCC =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alario Base + Complementos Salariales (Excluidas Horas Extraordinaria) + PP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PPE =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Nº pagas * Qx)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TINGENCIA PROFESIONALE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CCP=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CCC + Horas Extraord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RP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ase de IRPF =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otal deven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 DE SA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ES DE SA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GAR Y TIEMPO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BO DE SA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MENTOS SALA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S DE CO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CONCEPTO DE SALARIO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considera salario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talidad de las percepciones económic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 reciben los trabajadores, e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nero o en especi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por la prestación profesional de sus servicios por cuenta ajen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mnizaciones o suplidos por los gastos realizados como consecuencia de su actividad laboral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dietas de viajes, quebranto de moneda, prendas de trabajo, desgaste de herramientas, gastos de locomoción, Plus de distancia, Plus de transporte)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taciones o indemnizaciones de la Seguridad Social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mnizaciones correspondientes a traslados, suspensiones o despid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LASES DE SALA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DAD DE CAL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por unidad de tiemp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oras, días, semanas..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por unidad de obr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rabajo a destaj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O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en metálic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debe pagar en moneda de curso legal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en especi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roductos, genero;   no superar el 30% del tota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Comic Sans MS"/>
              </a:rPr>
              <a:t>LUGAR DE PAGO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lugar será el convenido o el que fijen los usos y costumbres, normalmente en las propia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laciones de empresa o en una institución banca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Comic Sans MS"/>
              </a:rPr>
              <a:t>TIEMPO DE PAGO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ige e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io de la post-remu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ago debe s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iodicidad puede s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ria, semanal quincenal o mensu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pero en ningún caso debe excederse del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la empresa s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mo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 el pago del salario y el trabajador lo ha exigido judicialmente, deberá, además pagar u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és por la demora que la ley fija en el 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L RECIBO DE SALARIO (Nómina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O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OS DEL TRABAJADOR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O LIQU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N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PCIONES SALA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ARIO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PCIONES NO SALA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DU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QUIDO A PERCIB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4680" y="-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o271294-mtss.i1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6095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BO DE SALARIO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 Sans MS"/>
              </a:rPr>
              <a:t>SALARIO BA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la retribución del trabajador fijada por unidad de tiempo o de obra; lo que significa que es una cantidad estable y garantizada en todo caso al trabaj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forman parte del salario base las Pagas Ext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21:59Z</dcterms:created>
  <dc:creator>Profesor</dc:creator>
  <dc:description/>
  <dc:language>en-US</dc:language>
  <cp:lastModifiedBy>Invitado</cp:lastModifiedBy>
  <dcterms:modified xsi:type="dcterms:W3CDTF">2008-04-10T05:24:23Z</dcterms:modified>
  <cp:revision>8</cp:revision>
  <dc:subject/>
  <dc:title>EL SALARIO</dc:title>
</cp:coreProperties>
</file>